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2DA-EF91-447D-B182-198A85A0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745-8AC2-479F-86F8-D6AA5D52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96E-9822-40A3-B8BA-CDC8C3B4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CAC-4BD9-472A-813E-5E6961A2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06C5-483F-44D8-8D30-FE896D94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1AFD-088B-4B65-8367-D177299F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35E7-02A7-4AC4-97D6-A8D2516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B6A9-3015-49FD-BFF7-248AD31C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0E6F-4938-4D02-8969-071A7239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E9BB-6E85-4D4A-A1E2-55CEE26F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ACB6-D256-430C-84E8-9F11679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EEB-BE77-4163-9828-59C0CA1D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6931-B449-495B-9DEC-CFC3D2B5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C508-A2A6-4679-BFF2-C6B02DC1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F4D-A64A-4BE1-8791-D48E5604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B8DC-5E46-4E5C-8C4D-53296D45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0F04-A76F-4E53-A205-A54A9E7A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0A2-0438-4BB2-B960-67450149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84A-B3F2-4D7A-BB85-02EE66B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C6E-4B92-45B9-BFE9-984E272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16D-75DD-43D3-95D0-DC78CE69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5CF-5E3C-41A1-81F4-38D6034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BC6-B486-4E12-BEFA-408E894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4D5-EEE1-4DE3-B6AF-5C8848F7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4A59-35E9-4BF7-9B12-63A848FC803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6580-A431-430F-AA3D-B93782385D3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acebook.com/photo.php?pid=1902797&amp;id=113355457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facebook.com/photo.php?pid=77098&amp;id=1133554571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78000" y="450720"/>
            <a:ext cx="8242200" cy="1847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By: Elsa Figuero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5" descr="http://a3.sphotos.ak.fbcdn.net/hphotos-ak-ash1/hs885.ash1/179326_1732303224082_1133554571_1935831_435041_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3048120"/>
            <a:ext cx="3628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Born in the Dominica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Grew up in NYC, Brookly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Two older brot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Moved to Massachusetts at the age of 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Graduated high school in 200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68120" y="54864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04560" y="1295280"/>
            <a:ext cx="83818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Graduated NECC with an associates in Psych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Currently attending Cambridge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Major: Business Manag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Son named Kaid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5 years ol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Attends Kindergart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Love Television, can’t live without 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Not a fan of anima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Big fan of vampires. Twilight, twilight…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My son and I have mommy and kaiden saturday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Love to bak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I love shopping for sho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I have the best parents in the worl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a1.sphotos.ak.fbcdn.net/photos-ak-snc1/v276/183/23/1133554571/n1133554571_77193_563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960" y="1017720"/>
            <a:ext cx="2176560" cy="245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a3.sphotos.ak.fbcdn.net/photos-ak-snc1/v276/183/23/1133554571/n1133554571_77408_6668.jpg"/>
          <p:cNvPicPr/>
          <p:nvPr/>
        </p:nvPicPr>
        <p:blipFill>
          <a:blip r:embed="rId4"/>
          <a:stretch/>
        </p:blipFill>
        <p:spPr>
          <a:xfrm>
            <a:off x="5778360" y="878040"/>
            <a:ext cx="2676600" cy="318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a4.sphotos.ak.fbcdn.net/hphotos-ak-snc6/hs067.snc6/167722_1756808516699_1133554571_1981415_696132_n.jpg"/>
          <p:cNvPicPr/>
          <p:nvPr/>
        </p:nvPicPr>
        <p:blipFill>
          <a:blip r:embed="rId5"/>
          <a:stretch/>
        </p:blipFill>
        <p:spPr>
          <a:xfrm>
            <a:off x="3005280" y="1158840"/>
            <a:ext cx="2309760" cy="284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a2.sphotos.ak.fbcdn.net/hphotos-ak-snc3/hs070.snc3/13738_1264926699961_1133554571_823124_7265227_n.jpg"/>
          <p:cNvPicPr/>
          <p:nvPr/>
        </p:nvPicPr>
        <p:blipFill>
          <a:blip r:embed="rId6"/>
          <a:stretch/>
        </p:blipFill>
        <p:spPr>
          <a:xfrm>
            <a:off x="530280" y="3803760"/>
            <a:ext cx="3146400" cy="30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a7.sphotos.ak.fbcdn.net/hphotos-ak-snc3/hs232.snc3/21952_1294781646316_1133554571_912610_8020143_n.jpg"/>
          <p:cNvPicPr/>
          <p:nvPr/>
        </p:nvPicPr>
        <p:blipFill>
          <a:blip r:embed="rId7"/>
          <a:stretch/>
        </p:blipFill>
        <p:spPr>
          <a:xfrm>
            <a:off x="5072040" y="3767040"/>
            <a:ext cx="24256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47:34Z</dcterms:created>
  <dc:creator>training</dc:creator>
  <dc:description/>
  <dc:language>en-US</dc:language>
  <cp:lastModifiedBy>ccstudent</cp:lastModifiedBy>
  <dcterms:modified xsi:type="dcterms:W3CDTF">2011-02-06T16:13:32Z</dcterms:modified>
  <cp:revision>9</cp:revision>
  <dc:subject/>
  <dc:title>Simply elsa</dc:title>
</cp:coreProperties>
</file>